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9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wichtszu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ewichts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84880" y="549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oly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ly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3"/>
            <a:endCxn id="15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0" name=""/>
          <p:cNvCxnSpPr>
            <a:stCxn id="157" idx="3"/>
            <a:endCxn id="16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fall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4720" y="549360"/>
            <a:ext cx="72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ssim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bsorp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aloriengehalt des 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3"/>
            <a:endCxn id="16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ür andere Spezie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 fü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Altersstufe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tungsgrupp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gane Fütte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9" idx="3"/>
            <a:endCxn id="17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3" name=""/>
          <p:cNvCxnSpPr>
            <a:stCxn id="169" idx="3"/>
            <a:endCxn id="17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über 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6" idx="3"/>
            <a:endCxn id="17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Enteropath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phropath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sur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6" idx="3"/>
            <a:endCxn id="18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0" name=""/>
          <p:cNvCxnSpPr>
            <a:stCxn id="186" idx="3"/>
            <a:endCxn id="18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3" idx="3"/>
            <a:endCxn id="19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7" name=""/>
          <p:cNvCxnSpPr>
            <a:stCxn id="193" idx="3"/>
            <a:endCxn id="19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alorienverbrauch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verbrauch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offwechsel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20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lastung ↑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kt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6" idx="3"/>
            <a:endCxn id="20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8120" y="549360"/>
            <a:ext cx="67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verbrauch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offwechsel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influss von 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3"/>
            <a:endCxn id="212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3" name=""/>
          <p:cNvCxnSpPr>
            <a:stCxn id="210" idx="3"/>
            <a:endCxn id="21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5" name=""/>
          <p:cNvCxnSpPr>
            <a:stCxn id="210" idx="3"/>
            <a:endCxn id="216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5200" y="54936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ohne Gewichtszunahme/mitGewichtsverlust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alorienverbrauch ↑ &gt; 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ichtszu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sych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968040" y="54936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oly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it Gewichtszu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5200" y="54936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ohne Gewichtszunahme/mitGewichtsverlust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alorienverbrauch ↑ &gt; „jemand frisst mit“ &gt; 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9" idx="3"/>
            <a:endCxn id="2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rofilar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-Darm-Würm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ktoparasit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5160" y="549360"/>
            <a:ext cx="76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it Gewichtszunahm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influss von 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Diazepa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Phenobarbita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1560" y="54936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it Gewichtszunahm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sychogener 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utternei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ein physiolog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ättigungsgefüh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ichts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4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5" name=""/>
          <p:cNvCxnSpPr>
            <a:stCxn id="122" idx="3"/>
            <a:endCxn id="12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2" idx="3"/>
            <a:endCxn id="127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5240" y="54936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itGewichts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assimil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1" idx="3"/>
            <a:endCxn id="13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5" name=""/>
          <p:cNvCxnSpPr>
            <a:stCxn id="131" idx="3"/>
            <a:endCxn id="13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alorie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3"/>
            <a:endCxn id="13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38" idx="3"/>
            <a:endCxn id="14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alorien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47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8" name=""/>
          <p:cNvCxnSpPr>
            <a:stCxn id="145" idx="3"/>
            <a:endCxn id="149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kr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äur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ssim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3" idx="3"/>
            <a:endCxn id="15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4520" y="549360"/>
            <a:ext cx="61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ly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Gewichtszunahm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itGewichts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alorien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lassim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52:10Z</dcterms:modified>
  <cp:revision>331</cp:revision>
  <dc:subject/>
  <dc:title>Vorstellung einer Neuheit</dc:title>
</cp:coreProperties>
</file>